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 определяет пять режимов обмена, один из которых полностью соответствует традиционному стандартному программно-управляемому выводу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тальные режимы используются для расшире­ния функциональных возможностей и повышения производительности интерфейса. Стандарт определяет способ согласования режима, по которому программное обеспечение может определить режим, доступный и хосту (в нашем случае э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ериферийному устройству(П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имы нестандартных портов, реализующих протокол обм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ппар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«Fast Centronics, «Parallel Port FIFO Mode»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гут и не являться режим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1284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смотря на наличие в них черт ЕРР и Е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писании режимов обмена фигурируют следующие пон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ст — компьютер, обладающий параллельным 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 — периферийное устройство, подключаемое к этому порту (им может оказаться и другой компьютер). обозначениях сигнал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t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означает передающее периферийное устро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канал — канал вывода данных от хоста в П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анал  канал в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 в хост из П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жимы передачи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5146-EE61-4C79-A321-DA1A480D6BE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основного станда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, который уже принят, в настоящее время в стадии проработки находятся новые стандарты, не отменяющие его, а опре­деляющие дополнительные возможности. К ним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4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Standard for Information Technology for Transport Independent Printer/Scanner Interface (TIP/SI)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т стандарт разрабатывается для управ­ления и обслуживания сканеров и принтеров на основе протоко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PAP (Net­work Printing Alliance Protoco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2 «Standard for Test, Measurement and Conformance to IEEE Std. 1284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тандарт для тестирования портов, кабелей и устройств на совмес­тимость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3 «Standard for Interface and Protocol Extensions to IEEE St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8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iant Peripheral and Host Adapter Ports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тандарт на драйверы и использование устройств прикладным программным обеспе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4 «Standard for Data Delivery and Logical Channels for IEEE St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8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faces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т стандарт направлен на реализацию пакетного протокола достоверной передачи данных через параллельный порт. Исходной точкой яв­ляется протоко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LC (Multiple Logical Channels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ир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wlett-Packard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тие стандар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2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8E47-10E0-441E-A0C6-9CD0A070F73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правление параллельным портом разделяется на два этапа — предварительное конфигурировани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Setup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аппаратных средств порта и текущее (оперативное)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переключение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ежимов работы прикладным или системным ПО. Оперативное переключение возможно только в пределах режимов, разрешенных при конфи­гурировании. Таким образом обеспечивается возможность согласования аппа­ратуры и программного обеспечения и блокирования ложных переключении, вызванных некорректными действиями програм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особ и возможности конфигурирования LPT-портов зависят от его исполнения и местоположения. Порт, расположенный на плате расширения (обычно на мультикарте), устанавливаемой в сло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S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SA+VLB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бычно конфигурируется джамперами на самой плате. Порт, расположенный на системной плате, обычно конфигурируется через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BIOS Se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нфигурированию подлежат следующие параметры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азовый адрес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который может иметь значени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3BCh, 378h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278h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 инициализаци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оверяет наличие портов по адресам именно в этом порядке и, соответственно, присваивает обнаруженным портам логи­ческие имен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LPT1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LPT2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LPT3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Адрес 3BCh имеет адаптер порта, распо­ложенный на плат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MD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HGC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Большинство портов по умолчанию конфигурируется на адрес 378h и может переключаться на 278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спользуемая линия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проса прерывания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LPT1 обычно используется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RQ7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LPT2 —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RQ5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спользование канал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DM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режимов ЕСР 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Fast Centronics —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азреше­ние и номер канал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DM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нфигурирование LPT-пор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D750-9695-4CBB-AB49-EC291E0243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распространенным применением LPT-порта является, подключение принтера. Практически все принтеры могут работать с портом в режиме SPP, но применение расширенных режимов дает дополнительные пре­имуще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унаправленный режим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дает дополнительные возможности для сообщения состояния и параметров принтера. Скоростные режимы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onic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существенно повышают производительность практически любого принтера (особенно лазерного), но могут потребовать более качественного каб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ЕСР потенциально самый эффективный, и он имеет системную поддержку во всех варианта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з распространенных семейств ЕСР поддерживают принте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kJ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деле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X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erJ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чиная с 4-го, современные модели фирм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ребуют применения кабеля по частотным свойствам соответствую­щег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28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ейший вариант кабеля подключения принтера — 18-проводный кабель с неперевитыми проводами с успехом может использоваться для работы порта в режим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деальным вариантом являются кабели, в которых все сигнальные линии перевиты с общими проводами и заключены в общий экран — то, что требу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248. Такие кабели гарантированно работают на скоростях до 2 Мбайт/с, и допускается их длина до 10 ме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ование параллельных пор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7661-6C68-4A8E-BE8E-B9315C5C43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ми ввода  являются те устройства, посредством  которых можно ввести информацию  в  компьютер.  Главное  их предназначение - реализовывать воздействие на ПК.  Разнообразие выпускаемых устройств ввода породили целые технологии: от осязаемых до голос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устройством   ввода  большинства  компьютерных систем является  клавиату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ы различаются по двум признакам: способ подключения и дизайн. Подключение клавиатуры к компьютеру может осуществляться через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, USB и через ИК (инфракрасный) порт для беспроводных моделей. В последнем способе подключения клавиатура требует дополнительного источника питания, например батаре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FF8F-04F6-4C70-97FD-C545B9AF8B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2" descr=""/>
          <p:cNvPicPr/>
          <p:nvPr/>
        </p:nvPicPr>
        <p:blipFill>
          <a:blip r:embed="rId1"/>
          <a:stretch/>
        </p:blipFill>
        <p:spPr>
          <a:xfrm>
            <a:off x="3456000" y="2637000"/>
            <a:ext cx="125712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B250-3514-4B85-BCCD-1AB0FA9504C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E221-170B-4566-920C-77AF93E5390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80A0-25B1-4B08-ABC3-1221C0FF6B5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ъем стандартного LPT-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ия параллельного 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ы передачи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тандар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2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игурирование LPT-по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параллельных по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259B-2983-49B8-B9CE-19B54960D7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параллельного интерфейса был введен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подключения принтера —LPT-пор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построчный принт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аптер параллельного интерфейса представляет собой набор регистров, расположенных в пространстве ввода/вывода. Регистры порта адресуются относительно базового адреса порта, стандартными значениями которого являются 38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37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278h. Порт имеет внешнюю 8-битную шину данных, 5-битную шину сигналов состояния и 4-битную шину управляющих сиг­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держивает до четырех  LPT-порт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своим сервисом — прерыв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еспечивающим через них связь с принтерами по интерфейс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им сервис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уществляет вывод символа, инициализацию интерфейса и принтера, а также опрос состояния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ъем стандартного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1F3C-39CC-4C55-B9F0-6EC5A1F6CF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160640"/>
            <a:ext cx="8496000" cy="5148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197000"/>
            <a:ext cx="8496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871640" y="1268280"/>
          <a:ext cx="4608360" cy="5010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1173240"/>
                <a:gridCol w="1015920"/>
                <a:gridCol w="1015920"/>
              </a:tblGrid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-25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 шлейф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/O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Bit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 0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obe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k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 7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per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 1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 LF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it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3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 In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 12, 14, 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 20, 22, 24, 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еспечивает поддержку LPT-порта, необходимую для организации вывод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фей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начального тестир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T 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ряет наличие парал­лельных портов по адресам ЗВСЬ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78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78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омещает базовые адреса обнаруженных портов в ячей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OS DATA AREA 0:0408h, 040Ah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40СП, 040ЕП. Эти ячейки хранят адреса портов с логическими имен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1-LPT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ячейки 0:0478, 0479, 047А, 047В заносятся константы, задающие выдержку тайм-аута для этих пор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иск пор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ычно ведется по базовому адресу. Если считанный байт совпал с записанным, считается, что найден LPT-порт, и его адрес помещают в ячей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 DATA ARE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Адрес по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4 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мостоятельно установить не может, поскольку в списке стандартных адресов поиска имеются только три вышеука­з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наруженные порты инициализируютс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писью в регистр управления формируется и снимается сигн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itff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ле чего записывается значение 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ответствующее исходному состоянию сигналов интерфей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5195-C8AE-42D8-ABD0-6B836EAF491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5458-958D-4A33-9DEE-ED865D58BE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е преры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OS I NT 17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еспечивает следующие функции поддержки LPT-пор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вывод символа из регист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анные помещаются в выходной регистр и после готовности принтера формируется стро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нициализаия интерфейса и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h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рос состояния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з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7h номер функции задается в регистре АН, номер порта — в регист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0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1,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— LPT2...). При возврате после любой функции регистр АН содержит код состоя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иты регистра состоя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R[7:3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биты 6 и 3 инвертированы) и флаг тайм-аута в бите 0. Флаг тайм-аута устанавливается при неудачной попытке вывода симв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ки стандартного порта частично устраняют новые типы портов, поя­вившихся в компьютерах семейства PS/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унаправленный порт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ypel parallel por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нтерфейс, введенный с PS/2. Такой порт кроме стандартного режима может работать в режиме ввода или двунаправленном. Протокол обмена формируется программно, а для указания направления передачи в регистр управления порта введен специальный бит: пр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.5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фер данных работает на вывод, 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.5=1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в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с прямым доступом к памя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yp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MA parallel por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менялся в PS/2 моделей 57, 90, 95. Этот тип был введен для повышения пропускной способности и разгрузки процессора при выводе на принтер. Программе, рабо­тающей с данным портом, требовалось только задать блок данных в памяти, подлежащих выводу, и вывод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изводился без участия процессор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ширения параллельного 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C7D4-A5D6-413D-9838-188B2C07A4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 определяет физические характеристики приемников и передатчиков сигна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ередатчикам предъявляются следующие треб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ни сигналов без нагрузки не должны выходить за пределы -0,5... +5,5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ни сигналов при токе нагрузки 14 мА должны быть не ниже +2,4 В для высокого уров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oh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е выше +0,4 В для низкого уров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ol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остоянном 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ной импедан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меренный на разъеме, должен составлять 50(±)5 Ом на уров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h-vol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обеспечения заданного импеданса в некоторых случаях используют последовательные резисторы в выходных цепях передатчика. Согласование импеданса передатчика и кабеля снижа­ет уровень импульсных пом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 нарастания (спада) импульса должна находиться в пределах 0,05-0,4 В/н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5CAD-F136-47E0-B7D1-EE9F60CF5D8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26200" y="313884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ребования к приемника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опустимые пиковые значения сигналов -2,0...+7,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роги срабатывания должны быть не выше 2,0 В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vih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высокого уровня и не ниже 0,8 В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vil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низког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емник должен иметь гистерезис в пределах 0,2-1,2 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ходной ток микросхемы  не должен превы­шать 20 м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ходная емкость не должна превышать 50 пФ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 определяет три типа используемых разъемов. Типы Л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DB-25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 В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Centronics-36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спользуются в традиционных кабелях подклю­чения принтера, тип С — новый малогабаритный 36-контактный разъе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нтерфейсные кабели, традиционно используемые для подключения принте­ров, обычно имеют от 18 до 25 проводников, в зависимости от числа провод­ников цеп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GND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 регламентирует и свойства кабелей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се сигнальные линии должны быть перевитыми с отдельными обратны­ми (общими) провод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ждая пара должна иметь импеданс 62(±)6 Ом в частотном диапазоне 4-16 МГц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ровень перекрестных помех между парами не должен превышать 10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бель должен иметь экран (фольгу), покрывающий не менее 85% внеш­ней поверхности. На концах кабеля экран должен быть окольцован и со­единен с контактом разъе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бели, удовлетворяющие этим требованиям, маркируются надписью IЕЕЕ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-199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Compliant»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ни могут иметь длину до 10 метр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P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71BF-38C1-477C-9B02-D164F3EC7F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0:53:14Z</dcterms:modified>
  <cp:revision>94</cp:revision>
  <dc:subject/>
  <dc:title>Lecture Template </dc:title>
</cp:coreProperties>
</file>